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EE9-7041-4FF4-B00A-C6F0A411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399-ADE7-4B39-B98F-0AA1663C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2C7-29FE-40DA-AE32-BA76284D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ED6-FCAE-48A9-A0E6-6069B01B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388E-A287-4454-BF45-0EDA85BF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15DB-91A2-4D55-AADF-DE616B2D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9E25-8CE7-4A8B-B835-4DC331D9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477D-3AF8-456F-9FA1-B0F01D9D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7B65-87CB-4A49-B2DF-CFABA3F0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8A12-BFF7-4C33-94E1-8799D0A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544F-DF16-4D54-B443-8DB90166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FAF-18BD-4289-98FE-D09AEA24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CD2C-485E-47B9-BAA1-06F61215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3D36-70C7-4206-A58A-1D98AAD5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F1BD-3E07-4C0F-9332-B090C508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DA81-7917-409C-9CD7-E63EE0BB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910A-85A6-45A9-9692-CD38C865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BFD8-CAC9-454D-87F4-14FAFB97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B8545-E101-4859-AA3D-8290AB24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720A-32B1-4353-8532-2F2047DF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B596-0D22-454F-99F1-DE1B6CC6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3630-4A94-4F0E-90B9-2E426991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AC2-A2F1-4CF2-B04B-2B414B9C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D54F-D79A-4CFC-997A-0F1BADC1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32125-5936-4B83-BB85-61D4E09B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0D35-7BCB-43E7-AA80-C27E629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8FE8-1369-4BC5-A365-BCF6907D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53A2-6A04-4F71-96F3-ADAB748A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037A-AC1B-4039-B170-C902BE62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9DA2-9ACA-4265-AF6C-72E5B738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7E1-5D7B-4230-A111-E68FBB18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2E2-EF6A-4516-8D2F-712805EA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F4A-9663-4357-B3AD-FB676357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4E8-34C3-4C3B-B6B4-84F2DDA5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C9B-FE11-49B4-9D3E-A06A6772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BB7-EBA3-4633-BB0F-3895C0E4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800" spc="-1" strike="noStrike" cap="all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960EED-094C-4693-ABCC-3C5ED7A5557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CA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CA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E28F9F-15E4-421D-A81C-4C1017F3C1E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04E994-ECF8-4B41-986C-0192CE1425A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000000"/>
                </a:solidFill>
                <a:latin typeface="Lucida Sans"/>
              </a:rPr>
              <a:t>Design Skills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50720" y="48769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: Shreya 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olution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3430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roblem Statement 2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85116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30600" y="0"/>
            <a:ext cx="6186600" cy="685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3124080" y="4648320"/>
            <a:ext cx="601956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s: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use case is a description of a system’s behavior as it responds to a request that originates from outside of that system (Usually user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ther words, a use case describes "who" can do "what" with the system in ques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ML (Unified Modeling Language)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use case diagram in the Unified Modeling Language (UML) is a type of behavioral diagram defined by and created from a Use-case analysi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s purpose is to present a graphical overview of the functionality provided by a system in terms of actors, their goals (represented as use cases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mponents of a Use-Case Diagram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-Ca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Acto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ctor specifies a role that some external entity adopts when interacting with the system directl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may represent a role played by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 us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nothe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* a piece of hardwar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tors may be both at input and output ends of a use cas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Actor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5205240" cy="16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cribes all the services required or performed by the acto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610000" y="2753280"/>
            <a:ext cx="392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se-Case Nam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Use Case Nam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Written in a ov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mple Nam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Oval 3"/>
          <p:cNvSpPr/>
          <p:nvPr/>
        </p:nvSpPr>
        <p:spPr>
          <a:xfrm>
            <a:off x="2971800" y="3733920"/>
            <a:ext cx="2514240" cy="837720"/>
          </a:xfrm>
          <a:prstGeom prst="ellipse">
            <a:avLst/>
          </a:prstGeom>
          <a:gradFill rotWithShape="0">
            <a:gsLst>
              <a:gs pos="0">
                <a:srgbClr val="a49451"/>
              </a:gs>
              <a:gs pos="100000">
                <a:srgbClr val="d5c489"/>
              </a:gs>
            </a:gsLst>
            <a:lin ang="8346000"/>
          </a:gradFill>
          <a:ln>
            <a:solidFill>
              <a:srgbClr val="998846"/>
            </a:solidFill>
            <a:round/>
          </a:ln>
          <a:effectLst>
            <a:outerShdw blurRad="190440" dir="2700000" dist="228593" rotWithShape="0" sy="9000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200400" y="3930120"/>
            <a:ext cx="2057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egiste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roblem Statement 1</a:t>
            </a: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200240" y="2394000"/>
            <a:ext cx="6743520" cy="23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38</TotalTime>
  <Application>LibreOffice/7.4.7.2$Linux_X86_64 LibreOffice_project/40$Build-2</Application>
  <AppVersion>15.0000</AppVersion>
  <Words>230</Words>
  <Paragraphs>33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58:53Z</dcterms:created>
  <dc:creator>Shreya Rawal</dc:creator>
  <dc:description/>
  <dc:language>en-US</dc:language>
  <cp:lastModifiedBy>Shreya Rawal</cp:lastModifiedBy>
  <dcterms:modified xsi:type="dcterms:W3CDTF">2009-03-30T16:37:04Z</dcterms:modified>
  <cp:revision>10</cp:revision>
  <dc:subject/>
  <dc:title>Design Ski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